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9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</p:sldMasterIdLst>
  <p:sldIdLst>
    <p:sldId id="256" r:id="rId25"/>
    <p:sldId id="257" r:id="rId26"/>
    <p:sldId id="258" r:id="rId27"/>
    <p:sldId id="259" r:id="rId28"/>
    <p:sldId id="260" r:id="rId29"/>
    <p:sldId id="261" r:id="rId30"/>
    <p:sldId id="262" r:id="rId31"/>
    <p:sldId id="263" r:id="rId32"/>
    <p:sldId id="264" r:id="rId33"/>
    <p:sldId id="265" r:id="rId34"/>
    <p:sldId id="266" r:id="rId35"/>
    <p:sldId id="267" r:id="rId36"/>
    <p:sldId id="268" r:id="rId37"/>
    <p:sldId id="269" r:id="rId38"/>
    <p:sldId id="270" r:id="rId39"/>
    <p:sldId id="271" r:id="rId40"/>
    <p:sldId id="272" r:id="rId41"/>
    <p:sldId id="273" r:id="rId42"/>
    <p:sldId id="274" r:id="rId43"/>
    <p:sldId id="275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" Target="slides/slide1.xml"/><Relationship Id="rId26" Type="http://schemas.openxmlformats.org/officeDocument/2006/relationships/slide" Target="slides/slide2.xml"/><Relationship Id="rId27" Type="http://schemas.openxmlformats.org/officeDocument/2006/relationships/slide" Target="slides/slide3.xml"/><Relationship Id="rId28" Type="http://schemas.openxmlformats.org/officeDocument/2006/relationships/slide" Target="slides/slide4.xml"/><Relationship Id="rId29" Type="http://schemas.openxmlformats.org/officeDocument/2006/relationships/slide" Target="slides/slide5.xml"/><Relationship Id="rId30" Type="http://schemas.openxmlformats.org/officeDocument/2006/relationships/slide" Target="slides/slide6.xml"/><Relationship Id="rId31" Type="http://schemas.openxmlformats.org/officeDocument/2006/relationships/slide" Target="slides/slide7.xml"/><Relationship Id="rId32" Type="http://schemas.openxmlformats.org/officeDocument/2006/relationships/slide" Target="slides/slide8.xml"/><Relationship Id="rId33" Type="http://schemas.openxmlformats.org/officeDocument/2006/relationships/slide" Target="slides/slide9.xml"/><Relationship Id="rId34" Type="http://schemas.openxmlformats.org/officeDocument/2006/relationships/slide" Target="slides/slide10.xml"/><Relationship Id="rId35" Type="http://schemas.openxmlformats.org/officeDocument/2006/relationships/slide" Target="slides/slide11.xml"/><Relationship Id="rId36" Type="http://schemas.openxmlformats.org/officeDocument/2006/relationships/slide" Target="slides/slide12.xml"/><Relationship Id="rId37" Type="http://schemas.openxmlformats.org/officeDocument/2006/relationships/slide" Target="slides/slide13.xml"/><Relationship Id="rId38" Type="http://schemas.openxmlformats.org/officeDocument/2006/relationships/slide" Target="slides/slide14.xml"/><Relationship Id="rId39" Type="http://schemas.openxmlformats.org/officeDocument/2006/relationships/slide" Target="slides/slide15.xml"/><Relationship Id="rId40" Type="http://schemas.openxmlformats.org/officeDocument/2006/relationships/slide" Target="slides/slide16.xml"/><Relationship Id="rId41" Type="http://schemas.openxmlformats.org/officeDocument/2006/relationships/slide" Target="slides/slide17.xml"/><Relationship Id="rId42" Type="http://schemas.openxmlformats.org/officeDocument/2006/relationships/slide" Target="slides/slide18.xml"/><Relationship Id="rId43" Type="http://schemas.openxmlformats.org/officeDocument/2006/relationships/slide" Target="slides/slide19.xml"/><Relationship Id="rId44" Type="http://schemas.openxmlformats.org/officeDocument/2006/relationships/slide" Target="slides/slide20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6111B-8E46-4A3C-B5BD-949DA565C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52D82-EDDF-4172-949C-E2EBDDFFD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92FC87-BC35-4EA8-9AD2-EB3D15432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E96BCA-79C7-482D-81CE-0A0284B24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A548B6-BB0D-4DA3-A555-1F99D637D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6CA0DF-8E54-4F3E-9CC5-25B67EC4D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6480C8-053D-42D1-873D-F930D3A86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0597B0-8B05-45FF-AA82-C756E7690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40E023-209C-42AB-ABED-790B31CF1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BA2E4A-F768-44F9-A5A0-9F51F921C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02BAB7-6412-4A4F-9AF0-8C00CE3E4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A81F61-FC51-4506-8428-5AD4D84D2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9A92B-2EC1-448D-B4F0-49A8F1D9A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7B6ADE-A01D-49B5-A814-3F8DE4D23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3126FA-0CCF-4DEB-B48C-37FE04DBF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742A13-C302-4277-B229-4E8F8DC42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4FBA8B-8BF0-4D69-BF35-1A69B8255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42E8CF-161A-4D36-A614-1DF33A66D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406A42-B6FE-4AB2-A0D5-467B58156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86906A-A5DA-4206-AD5E-49856BDFD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BA546B-DCC9-44BD-A45D-2C9E41467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F9FCC7-AFEC-4592-9006-5B0CFFEA9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E67CC5-F91C-4C85-AF04-F2B246B11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64730-A64B-46C1-8807-1B089D5F1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E2FE2E-5021-4364-BDD3-7E4885719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E2006D-2E44-441B-A9A7-8E148C7D7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C91BD1-D609-4510-A633-252F033E1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ACF580-1097-4BD5-8A75-19771151D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C05353-44B5-45E1-A4D1-9A2430165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01B46F-8584-45EA-81E2-DCEB33388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8F68FC-B12D-4AB2-BA9D-20820283E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95AB78-18A1-4C2A-B6FC-C78CA2E6F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E1CCE4-1E38-49F0-B607-973E7577E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F77F36-8FC5-4556-A0C4-C543A9273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70C05-E04F-4774-AC09-7BEF1B9A8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C72C17-C1A6-414C-A8C9-1CEC192ED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C3AD58-FA26-4570-960F-0EF787F3D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82030E-70C5-4AF9-B185-CADA02972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EE3567-9C8F-4A33-A032-ED9D21DBC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23505F-210C-44E3-9B55-8B8B595A7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1F0A97-D424-4850-8936-33A71C017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42996E-ED64-49C4-8078-505153F99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3ADC14-9B3F-4825-85DD-65330D3EB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93449F-2BC4-42CA-85D3-B7C3DE688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42E298-7844-4B0B-9098-0DCDFF9E0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974EC-D1CB-4C67-A390-4BEC46810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2DCCD1-B864-4EC4-A2AA-A64945B4E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EF8887-71D7-413B-BAF0-B6A2C66C8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F749FD-A27F-49E0-9A38-66CE78F09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8B134E-5BEC-478C-B345-EF1D35C5C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877E58-86E6-4781-A8FD-61C71038F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F375075-E6B5-4475-B4BC-ED1E004A8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EA585F0-0B25-40B3-BA78-E1CAC9218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D6F8D51-08EF-4580-97F6-173BD955E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E97A212-46CA-439B-BC09-23684D4B3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0409F11-F448-4365-B023-5211B02C6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4574D-708F-4923-9420-3BC7F6A03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67B8039-FF7E-4AE5-8021-435086E00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793B953-8A84-433A-A43C-FB1305DC6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ECCE1AA-C4AB-4ED5-944F-79EE2D186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BDE6EC1-51A2-42EE-ACFA-0513BEC91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11E841F-87A8-4B32-A88E-7897B3183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5AC9567-5FE1-4DED-8081-492913912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5640F39-D591-40C4-9D48-F8E86CB77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CC6349D-9F37-4D52-AF8E-3C9A35651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A1C4421-A2A4-4425-86E1-A7A184A19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1E63EFB-933B-47A0-8452-371043840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512D5-0C44-4B9A-808A-7560D1F81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1A5406D-F716-4CEA-B092-6DDAE7BCD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6F58BA9-F49F-48AA-B588-4A1F8EEE0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761B7B7-2559-47BE-9DFF-CA88FEEF5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DF5E749-F307-4556-AF28-137A6518A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3D21B63-A6D4-495C-9AE7-595F9D43A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930E744-9E89-477A-B725-D7050B6F1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55CD0CC-784F-416D-9056-CF25AF900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5861D32-CD3E-4F3B-A2A1-2287CC88B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42898C6-CA74-43D2-964D-4021DB0C2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2DD4015-56EE-4774-9410-C3C5620AC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7DCEC-D3F8-47A0-97CE-59CDFF38D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C4B3ECB-9792-459B-A11C-A517B79A8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3A0CEA0-652E-42C3-9496-A9F6DBE12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E186214-517D-42F4-A344-C113C0BAB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0D2D910-DF8F-4B5A-8A6B-144D87032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F638758-A8DD-4455-ACF8-18830E8E7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E714A4A-054F-4595-8041-5638C852D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78AB000-ED78-4E41-A5A5-F5702811E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AD44CB4-38AB-4597-A10C-4DAEEAB56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4BCD105-7AE6-4C48-8C56-25CBCFB01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657C2D5-699F-4736-8D59-B5F17E186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4CC07-87F6-4238-B578-DB3944810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462E5A9-07C6-4431-8EEB-44565BFBE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B0E9B72-1232-4395-AE68-07E8E0EEB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86EFC93-2F05-434C-B8C8-04A76151C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0474E74-E9AF-40DF-B622-7061FDE0A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AD89945-AD88-43BE-8A6A-A47F577BD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FC6D5AD-EBA7-47F7-AE0B-E787E522D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08D192A-0ECC-4CE3-9592-50A3DC76B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39436AF-19E3-4AC7-BDDF-284DCEF21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01DD093-F17F-4CB3-AAAE-68AF8A3DD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581E7A5-4F49-4A35-B08C-8749582CF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F19DA-810D-4A06-ADD1-6B284C9F7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95FD4DB-FDB8-4F8E-8B34-5765B21A5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A9F73ED-C08C-408E-A697-DD5F1F276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23839E8-304E-4B4F-93D6-4423A8FA9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4977B29-5215-40DB-9A39-54448E3F4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15F9FF5-8AE9-4229-879F-B322339EF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47F5778-649C-48D4-A257-3A20629B5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A95E5DD-F7AD-47F3-9872-64E93DAA8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E404ED3-3453-4EB0-897E-42B361207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0F09772-5778-4A38-9A30-A49758269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CF9DE60-166D-4D24-84B1-A7F4A84F2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88B0C-8918-426F-934F-CE57695F5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CDCD5-C873-4538-9164-F2A2E2CA2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B68DCC2-5A1F-490D-9B57-871495663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1BE5B77-A02C-4653-AD9E-CA333B88E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134E20B-447D-4E28-AA3B-B769BE6FE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9885822-B169-4FBD-B96A-2AE2F99B8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93EB786-2A71-4FE6-BB86-A15F0EBF0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CA8635F-8044-4AA1-A214-8EF3A7F52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CD9A2BD-091C-4745-BA94-1E5332D70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F6E2512-545F-4126-8B72-DAD1642F5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3AE1B64-3920-4FD8-8974-0A5B7179F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BDDD43E-BDA0-4CEF-B930-93A005994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3CD1B-55BB-40CD-ABE0-7C230EA94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A16E4A4-946A-4F0E-B487-01DDD9EA9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A447E54-0F73-41A3-8179-0F8622A06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30DC822-71D6-4907-9B1B-5973F1EE0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74A2D62-4CDB-40A2-A67E-578A51F44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5568928-2182-49FF-ADCD-53CBB94E6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B28D7FF-97ED-408E-B8D4-1ED859BB5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648580C-A1A8-4290-B405-4DB2E6171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5FA2083-445A-4948-863B-ED8AC82CB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A0AF056-86F3-4983-9AF7-3DFBCB495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71CC355-EA43-40C5-88F4-774D4586A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BC6C4-3F2F-44DF-90F0-560DFE910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A25B389-30E7-460E-90FD-4855592BB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E745460-9038-4995-B16B-66C87799E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F388C66-143F-4A39-82FD-8E4740DD6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FE59BF9-B724-462C-9D15-0019E3F64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D0F8F1F-F393-4157-AB58-8E59BBB2E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D9CBC04-9B24-4B17-BF66-119A56650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DDF511E-EDF8-4429-868E-78B158532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659D878-D095-466E-A170-70D4F17B5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CA174A0-F875-4F46-B3C1-440E60852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62C573A-63B5-4BC9-9071-45EB4EFBE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EE0FC-97F9-4F7A-8395-5B04F3CF8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7D7E65B-ED1D-411B-94A2-2DFA47D68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FC99462-3303-4221-9C03-BC0EF9BC6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2A3E10C-C3F4-4DE0-BC58-BEEC2CC5D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B6BF6AC-75DF-4B0A-850C-292EF76D3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C86D3A8-A15E-49EF-AA81-D8BA448A9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EDC47F1-2AC6-48DF-B35A-6597548F3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73D26BA-9A28-4F8D-B5DE-8A12AECEE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2E4AC71-00D2-48F4-87E1-2C8198A8C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1525948-9F43-43B4-85D1-22E1A1AB3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CC75CFD-339D-4732-9BD6-A1BFE9AD3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EC06A-3B67-4782-8F8D-48896ABA6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4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583F31B-45E5-490C-804F-39842D8F3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3AF939E-4B77-43E6-8CD6-42160C674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C33F735-12BA-4245-BC5A-F4C504CAE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F2CA1A7-B745-4F7B-8DF3-FAD37D89C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4F00E29-0084-4565-8CDD-CC0F66443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CE41536-3952-4DDD-B0F8-4B9200DBF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A70B20F-E58A-47EE-B185-4D9F378F5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C30098A-CE6A-4FE6-9FD0-1DCBEA906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53E33FE-34B4-4A4E-9558-3C9F51CD2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5780A8D-3F84-4549-9B45-B2247DB1F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55A1AC-1D7C-457F-9FD4-94AE6DFBB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4A7E1C6-3954-4306-B626-8FB79FA3D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0CE2F9F-71E7-4D38-A225-B237676C6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B2FF6CA-0770-4DF4-A26F-80A016480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8619F0A-D3F8-425B-A51B-7B8BFB7A3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65B97DB-A98B-47EA-8949-C5CD4CE10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9267ECA-A143-4436-BD36-0CDBA7103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8100FDD-DFBE-42C8-8858-357A80AA4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971DD53-01D6-4F72-AE29-28184CCB9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D1B81F2-36C0-4719-A133-9AE43025F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A2249B1-0807-4542-80D4-DCDC374F7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F935A7-5108-4595-B844-1D63C580B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71FF511-FE59-4F82-BFD2-41E07F40B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8AFE590-7ED4-45CF-9B9D-934C6C32C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BF9DBA1-0544-47CF-BFB7-098E6AC0C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32077B3-F29D-4093-95E0-A39C23119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42992C5-625F-469B-8B40-35F343F2C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1690408-2C9D-43CB-A62B-F2F22C536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18ED314-8AA6-46F9-8642-87C6FFD8D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E900ECD-299E-421D-93C1-53D9271B8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F97CCC2-8175-4517-B1E1-293D51F74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9303AD0-59C8-4DFD-A6E8-5AB9FCB03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316513-3CD5-4189-A058-E28C5A28A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4E5D965-1DC4-4897-8B21-FEBB1ED09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6C61140-17D0-4115-A037-DE4978117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18BF153-D7C2-4B74-93B4-1BB707AD3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3155FCB-10D9-4DA8-BC41-11D1279F1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4F4645F-898F-463F-B46B-37B53D2C8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2143E0A-08C2-47B2-AB58-3B7DA75DB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7B8DD9B-2D52-40BB-9640-828F712D5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23E68A-7983-4BA4-B626-EE2BB72D1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6BD7FC-FB2E-4AD7-85C2-54FB0A90E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2120B-D7B6-4C15-A643-D5857E982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91A2FB-900D-4522-9017-7A58B8F81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4A075F-3DA0-4D38-BCE1-0A0C2F0D0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2CBD07-55CE-4EC4-810C-9F26BE274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2F841B-10F7-46BF-B8DB-22B394F6C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3D7321-8F30-46E4-BC8B-CD3FCC3A4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572901-FB64-4301-B56E-19BF3FE48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CFEDC6-6015-4129-BE01-EDF9AB24E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84ACCE-C301-4D7E-9D42-5128E71A8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94A1D1-D0C2-4697-803F-96F2A3767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1C4013-65DA-41BD-97FC-419CA0000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0CE03-F2F0-412B-953F-576257214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B2E28C-9A66-4028-AFE7-E5E767643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3AB586-E5B3-4232-B5A1-787E1D967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233441-D3A7-425B-909B-A0FAF26C7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6253E9-1D6E-4289-ADDF-395B9D97B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347412-6245-4585-B28A-5F9E4A503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998718-70D8-4F73-8FD2-5566A609F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48E21A-E266-48B1-84ED-60C1CFFB2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63FB22-683F-4F0F-BA31-97D0F2913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61F691-08C7-4433-904F-AF0CAA04A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7A025B-6CE4-49C9-B80E-140364887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4192B-12A3-4C91-89A0-7A225AEE7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A0C20E-76F1-451D-947A-FBC79B21E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C3A8F6-ED05-4CC4-894C-D1E66F4D0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5B76D0-9FB7-4603-BD86-19EA7FDFA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2D76E1-0C74-4E55-B7C3-C414E8746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4C5809-51E4-48FF-BB3A-D7408E072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D856B0-881A-4FFD-92AF-BD84F4B02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9CFD37-65AF-4C75-909F-FD57EE6F3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F807A5-273C-4544-B9A7-9C31254C9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435024-B1B5-45EE-91A1-41F92FB21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48DCF4-B86C-4E5F-97F4-3475141BF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BC356-9650-44BA-B126-9B4232228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4570A7-759F-4053-8C49-3C3CB8826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5DE42A-F85D-4D8D-AAF5-AF6AD70F4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D50D2A-E9E9-4B40-A501-610CEBECA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93FCDC-72BC-48F9-BEC6-396BBB4D5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A958CA-E0DA-4F0F-9D7E-339793FFA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8651EA-333C-49A0-90A3-BAE0F6DF8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42A5DC-929B-4F59-B3F2-C4D94C2DD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C6A2E0-2829-4F62-9B28-9F8F64C8F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36CE17-DDA9-40F2-A8CB-1A8CAB7D2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6E0546-F25D-45A0-8BAE-FBAE2822F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486E9-FC12-4A66-BC6E-588EDCC3B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8D1C3C-9BD8-4670-B7BB-20CCE0503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24C97E-B752-4B71-9F6D-9D68F0311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95075D-05F4-40C8-A47C-BBC88C4AB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F3B0F7-C03C-4C58-BA4D-54FF6FC0C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B4F0E4-C16E-4E6B-BC2E-A5FDAE0F5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1BDFC8-6552-4F0C-BF85-FA0363E62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F57236-5DFA-4C1D-B9EE-1272EA0AC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F5C60E-52CD-426F-AF48-ABD27123F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20E6EE-B9F5-4DA6-B478-DE6593FC2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82996C-A536-4A73-A588-17CC1390F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0E89D-718E-4153-8A48-4522D1E21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8ED3F9-8B4A-4C63-A3A7-A895BC566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68F846-0A0A-48F9-A2E6-0F1169A83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CBA7E3-E25F-4050-81FC-A2C46E399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03CE2F-2C2A-458F-92DF-8F380D545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7D2074-22DD-4B9B-ABCA-9BE95FE0D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A407EC-AD3D-464E-80DC-3D7EA51BC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7508FE-77B2-47A2-85D8-2CCF63B77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56015B-FD88-490F-8D29-1F1D35B08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2837C9-A27F-4CE0-846E-357671A2C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E5A3F0-CC8F-4A67-B73D-7B6E07572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5D5A6-8CC2-4915-93D5-3B9452177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402065-C968-4D15-A1C0-0BD793D41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76BB7C-8B05-459A-A60B-57DE30A4C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B40EDB-7565-4068-9952-603CEFB84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6A243D-3894-440E-9958-4EC4D23E7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F0BF83-F394-49CB-97DC-54E7E480B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306891-23B0-4CAB-B47E-F11C16571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F3E67E-7A8D-478F-9AA3-8572AE1EB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3F0B79-49F0-4914-8F6F-59E8D333D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68F6AB-92D1-40AE-AD4F-9803B08C6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F4A711-845B-4D86-BC1C-4F5F5D619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C624A-EB73-422C-8E56-E97570B53C1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CCFA0-9720-4695-AB7E-90BB364016A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B65E0-5CD6-4160-ABD2-2D58FCF517F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452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3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454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7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458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1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3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474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475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476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0AB13-4DC0-4C6F-B426-901F418FFB7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AE141-1BAF-4FD8-828F-172833013FD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8D171-8BA7-47E0-A4B5-BC5A34BFB41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D3572-50BE-4F94-B9C5-BA6FC5CAFB5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9180E-1DDB-430A-90F7-C50AC248F6C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67A51-9A2A-484B-A24E-8658EC90617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4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B1544-3652-47FB-A70A-962AB6CC8B6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E5220-D610-402F-B640-802EC027BA2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7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30E5A-A1B3-4E32-964C-B015AA44B60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58EC9-F6D9-4941-9E53-9C5E92536E1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1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92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93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94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95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96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7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98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99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01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702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7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708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A1E67-4AB1-43BB-B797-23D8DBF58D4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26CB9-D3C3-47D1-A76B-F30ED466BDF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3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754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755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0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761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9BBFC-1DF3-4CDF-8FA7-E1BB451D3B3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C8507-AEB6-48DF-B3E0-7B2B6E7366F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7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2AA26-B28A-4588-8423-B80B7EF0742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1E553-3450-4784-80BC-4AA148BC21B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1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852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853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4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5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6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7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8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859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62C47-F048-49AA-838B-82E8C176662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D467E-C480-4145-95D5-40003AEDED8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19D58-FC0D-412A-85CB-23DA134F12C3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5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9B1AA-EC69-44FA-A176-36E66D716AB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4E1B9-6508-45B9-8D12-6C6213CE0D3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9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950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951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2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3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54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955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6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7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136BE-A75D-430F-82A1-D6C6C60A6A8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BB9F6-404B-48FA-BCFD-6AC2FBFB5BE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1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6FD18-DAA7-47BE-8AF9-793117A5994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F2C6F-44DC-4F56-B210-48E2164DC44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5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1046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1047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48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1049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0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51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1052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3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54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1055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1056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7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8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9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0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1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1062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3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4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 type="dt" idx="6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A3F41-0B63-46E5-9E0A-2A72CD09B7F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 type="ftr" idx="6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 type="sldNum" idx="6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2064A-C2E6-40BD-879B-3E9DC51ED07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93D0E-92C3-4539-A7BB-2D0C1C7E9BF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B041D-0E8D-493E-8525-652D26D5E5D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91967-0D48-4E7C-9ACB-A5C89DD82C3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68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1D6C0-2887-4CD8-AE0B-70CBB5EAD206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212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213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215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221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CEA19-AEED-4870-8997-413F72787A5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53FB3-8C4A-48C3-8BF5-951976E2690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A060F-AE84-4748-949B-C63032776B6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B43E0-5606-4F56-8A8F-9766BA3CCAB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310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311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312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7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318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21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DC6A8-0470-4708-8FC6-E88FE3D865A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08A48-1B68-4223-946E-D81525031F1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003E8-86FE-4EC0-B1DB-12C6161CC0A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EC0B5-5F1B-4299-8659-FB3B8BF626F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6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image" Target="../media/image14.png"/><Relationship Id="rId11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6" name="图片 1" descr=""/>
          <p:cNvPicPr/>
          <p:nvPr/>
        </p:nvPicPr>
        <p:blipFill>
          <a:blip r:embed="rId1"/>
          <a:stretch/>
        </p:blipFill>
        <p:spPr>
          <a:xfrm>
            <a:off x="2681280" y="2924280"/>
            <a:ext cx="3781440" cy="100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1" name="图片 1" descr=""/>
          <p:cNvPicPr/>
          <p:nvPr/>
        </p:nvPicPr>
        <p:blipFill>
          <a:blip r:embed="rId1"/>
          <a:stretch/>
        </p:blipFill>
        <p:spPr>
          <a:xfrm>
            <a:off x="152280" y="687240"/>
            <a:ext cx="8839440" cy="4934160"/>
          </a:xfrm>
          <a:prstGeom prst="rect">
            <a:avLst/>
          </a:prstGeom>
          <a:ln w="0">
            <a:noFill/>
          </a:ln>
        </p:spPr>
      </p:pic>
      <p:pic>
        <p:nvPicPr>
          <p:cNvPr id="1132" name="图片 2" descr=""/>
          <p:cNvPicPr/>
          <p:nvPr/>
        </p:nvPicPr>
        <p:blipFill>
          <a:blip r:embed="rId2"/>
          <a:stretch/>
        </p:blipFill>
        <p:spPr>
          <a:xfrm>
            <a:off x="1730520" y="5753160"/>
            <a:ext cx="6922800" cy="514440"/>
          </a:xfrm>
          <a:prstGeom prst="rect">
            <a:avLst/>
          </a:prstGeom>
          <a:ln w="0">
            <a:noFill/>
          </a:ln>
        </p:spPr>
      </p:pic>
      <p:pic>
        <p:nvPicPr>
          <p:cNvPr id="1133" name="Picture 1" descr=""/>
          <p:cNvPicPr/>
          <p:nvPr/>
        </p:nvPicPr>
        <p:blipFill>
          <a:blip r:embed="rId3"/>
          <a:stretch/>
        </p:blipFill>
        <p:spPr>
          <a:xfrm>
            <a:off x="611280" y="4581360"/>
            <a:ext cx="503280" cy="4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1" dur="500"/>
                                        <p:tgtEl>
                                          <p:spTgt spid="1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4" name="图片 1" descr=""/>
          <p:cNvPicPr/>
          <p:nvPr/>
        </p:nvPicPr>
        <p:blipFill>
          <a:blip r:embed="rId1"/>
          <a:stretch/>
        </p:blipFill>
        <p:spPr>
          <a:xfrm>
            <a:off x="235080" y="866880"/>
            <a:ext cx="8675640" cy="5484600"/>
          </a:xfrm>
          <a:prstGeom prst="rect">
            <a:avLst/>
          </a:prstGeom>
          <a:ln w="0">
            <a:noFill/>
          </a:ln>
        </p:spPr>
      </p:pic>
      <p:pic>
        <p:nvPicPr>
          <p:cNvPr id="1135" name="Picture 1" descr=""/>
          <p:cNvPicPr/>
          <p:nvPr/>
        </p:nvPicPr>
        <p:blipFill>
          <a:blip r:embed="rId2"/>
          <a:stretch/>
        </p:blipFill>
        <p:spPr>
          <a:xfrm>
            <a:off x="611280" y="907920"/>
            <a:ext cx="503280" cy="406440"/>
          </a:xfrm>
          <a:prstGeom prst="rect">
            <a:avLst/>
          </a:prstGeom>
          <a:ln w="0">
            <a:noFill/>
          </a:ln>
        </p:spPr>
      </p:pic>
      <p:pic>
        <p:nvPicPr>
          <p:cNvPr id="1136" name="Picture 1" descr=""/>
          <p:cNvPicPr/>
          <p:nvPr/>
        </p:nvPicPr>
        <p:blipFill>
          <a:blip r:embed="rId3"/>
          <a:stretch/>
        </p:blipFill>
        <p:spPr>
          <a:xfrm>
            <a:off x="611280" y="2565360"/>
            <a:ext cx="503280" cy="406440"/>
          </a:xfrm>
          <a:prstGeom prst="rect">
            <a:avLst/>
          </a:prstGeom>
          <a:ln w="0">
            <a:noFill/>
          </a:ln>
        </p:spPr>
      </p:pic>
      <p:pic>
        <p:nvPicPr>
          <p:cNvPr id="1137" name="Picture 1" descr=""/>
          <p:cNvPicPr/>
          <p:nvPr/>
        </p:nvPicPr>
        <p:blipFill>
          <a:blip r:embed="rId4"/>
          <a:stretch/>
        </p:blipFill>
        <p:spPr>
          <a:xfrm>
            <a:off x="611280" y="4724280"/>
            <a:ext cx="503280" cy="4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8" dur="500"/>
                                        <p:tgtEl>
                                          <p:spTgt spid="1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3" dur="500"/>
                                        <p:tgtEl>
                                          <p:spTgt spid="1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8" dur="500"/>
                                        <p:tgtEl>
                                          <p:spTgt spid="1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8" name="图片 1" descr=""/>
          <p:cNvPicPr/>
          <p:nvPr/>
        </p:nvPicPr>
        <p:blipFill>
          <a:blip r:embed="rId1"/>
          <a:stretch/>
        </p:blipFill>
        <p:spPr>
          <a:xfrm>
            <a:off x="461880" y="2052720"/>
            <a:ext cx="8218440" cy="2752560"/>
          </a:xfrm>
          <a:prstGeom prst="rect">
            <a:avLst/>
          </a:prstGeom>
          <a:ln w="0">
            <a:noFill/>
          </a:ln>
        </p:spPr>
      </p:pic>
      <p:pic>
        <p:nvPicPr>
          <p:cNvPr id="1139" name="Picture 1" descr=""/>
          <p:cNvPicPr/>
          <p:nvPr/>
        </p:nvPicPr>
        <p:blipFill>
          <a:blip r:embed="rId2"/>
          <a:stretch/>
        </p:blipFill>
        <p:spPr>
          <a:xfrm>
            <a:off x="826920" y="2060640"/>
            <a:ext cx="503280" cy="4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5" dur="500"/>
                                        <p:tgtEl>
                                          <p:spTgt spid="1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0" name="图片 1" descr=""/>
          <p:cNvPicPr/>
          <p:nvPr/>
        </p:nvPicPr>
        <p:blipFill>
          <a:blip r:embed="rId1"/>
          <a:stretch/>
        </p:blipFill>
        <p:spPr>
          <a:xfrm>
            <a:off x="233280" y="942840"/>
            <a:ext cx="8675640" cy="497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1" name="图片 1" descr=""/>
          <p:cNvPicPr/>
          <p:nvPr/>
        </p:nvPicPr>
        <p:blipFill>
          <a:blip r:embed="rId1"/>
          <a:stretch/>
        </p:blipFill>
        <p:spPr>
          <a:xfrm>
            <a:off x="200160" y="971640"/>
            <a:ext cx="8743680" cy="4914720"/>
          </a:xfrm>
          <a:prstGeom prst="rect">
            <a:avLst/>
          </a:prstGeom>
          <a:ln w="0">
            <a:noFill/>
          </a:ln>
        </p:spPr>
      </p:pic>
      <p:pic>
        <p:nvPicPr>
          <p:cNvPr id="1142" name="Picture 1" descr=""/>
          <p:cNvPicPr/>
          <p:nvPr/>
        </p:nvPicPr>
        <p:blipFill>
          <a:blip r:embed="rId2"/>
          <a:stretch/>
        </p:blipFill>
        <p:spPr>
          <a:xfrm>
            <a:off x="611280" y="3716280"/>
            <a:ext cx="503280" cy="406440"/>
          </a:xfrm>
          <a:prstGeom prst="rect">
            <a:avLst/>
          </a:prstGeom>
          <a:ln w="0">
            <a:noFill/>
          </a:ln>
        </p:spPr>
      </p:pic>
      <p:pic>
        <p:nvPicPr>
          <p:cNvPr id="1143" name="Picture 1" descr=""/>
          <p:cNvPicPr/>
          <p:nvPr/>
        </p:nvPicPr>
        <p:blipFill>
          <a:blip r:embed="rId3"/>
          <a:stretch/>
        </p:blipFill>
        <p:spPr>
          <a:xfrm>
            <a:off x="611280" y="4221000"/>
            <a:ext cx="503280" cy="406440"/>
          </a:xfrm>
          <a:prstGeom prst="rect">
            <a:avLst/>
          </a:prstGeom>
          <a:ln w="0">
            <a:noFill/>
          </a:ln>
        </p:spPr>
      </p:pic>
      <p:pic>
        <p:nvPicPr>
          <p:cNvPr id="1144" name="Picture 1" descr=""/>
          <p:cNvPicPr/>
          <p:nvPr/>
        </p:nvPicPr>
        <p:blipFill>
          <a:blip r:embed="rId4"/>
          <a:stretch/>
        </p:blipFill>
        <p:spPr>
          <a:xfrm>
            <a:off x="611280" y="4869000"/>
            <a:ext cx="503280" cy="4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2" dur="500"/>
                                        <p:tgtEl>
                                          <p:spTgt spid="1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7" dur="500"/>
                                        <p:tgtEl>
                                          <p:spTgt spid="1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2" dur="500"/>
                                        <p:tgtEl>
                                          <p:spTgt spid="1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5" name="图片 1" descr=""/>
          <p:cNvPicPr/>
          <p:nvPr/>
        </p:nvPicPr>
        <p:blipFill>
          <a:blip r:embed="rId1"/>
          <a:stretch/>
        </p:blipFill>
        <p:spPr>
          <a:xfrm>
            <a:off x="223920" y="2633760"/>
            <a:ext cx="8694720" cy="1590480"/>
          </a:xfrm>
          <a:prstGeom prst="rect">
            <a:avLst/>
          </a:prstGeom>
          <a:ln w="0">
            <a:noFill/>
          </a:ln>
        </p:spPr>
      </p:pic>
      <p:pic>
        <p:nvPicPr>
          <p:cNvPr id="1146" name="Picture 1" descr=""/>
          <p:cNvPicPr/>
          <p:nvPr/>
        </p:nvPicPr>
        <p:blipFill>
          <a:blip r:embed="rId2"/>
          <a:stretch/>
        </p:blipFill>
        <p:spPr>
          <a:xfrm>
            <a:off x="611280" y="2708280"/>
            <a:ext cx="503280" cy="406440"/>
          </a:xfrm>
          <a:prstGeom prst="rect">
            <a:avLst/>
          </a:prstGeom>
          <a:ln w="0">
            <a:noFill/>
          </a:ln>
        </p:spPr>
      </p:pic>
      <p:pic>
        <p:nvPicPr>
          <p:cNvPr id="1147" name="Picture 1" descr=""/>
          <p:cNvPicPr/>
          <p:nvPr/>
        </p:nvPicPr>
        <p:blipFill>
          <a:blip r:embed="rId3"/>
          <a:stretch/>
        </p:blipFill>
        <p:spPr>
          <a:xfrm>
            <a:off x="539640" y="3213000"/>
            <a:ext cx="503280" cy="4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9" dur="500"/>
                                        <p:tgtEl>
                                          <p:spTgt spid="1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4" dur="500"/>
                                        <p:tgtEl>
                                          <p:spTgt spid="1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8" name="图片 1" descr=""/>
          <p:cNvPicPr/>
          <p:nvPr/>
        </p:nvPicPr>
        <p:blipFill>
          <a:blip r:embed="rId1"/>
          <a:stretch/>
        </p:blipFill>
        <p:spPr>
          <a:xfrm>
            <a:off x="181080" y="836640"/>
            <a:ext cx="8781840" cy="53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9" name="图片 1" descr=""/>
          <p:cNvPicPr/>
          <p:nvPr/>
        </p:nvPicPr>
        <p:blipFill>
          <a:blip r:embed="rId1"/>
          <a:stretch/>
        </p:blipFill>
        <p:spPr>
          <a:xfrm>
            <a:off x="200160" y="1262160"/>
            <a:ext cx="8743680" cy="43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0" name="图片 1" descr=""/>
          <p:cNvPicPr/>
          <p:nvPr/>
        </p:nvPicPr>
        <p:blipFill>
          <a:blip r:embed="rId1"/>
          <a:stretch/>
        </p:blipFill>
        <p:spPr>
          <a:xfrm>
            <a:off x="147600" y="200160"/>
            <a:ext cx="8847000" cy="6457680"/>
          </a:xfrm>
          <a:prstGeom prst="rect">
            <a:avLst/>
          </a:prstGeom>
          <a:ln w="0">
            <a:noFill/>
          </a:ln>
        </p:spPr>
      </p:pic>
      <p:pic>
        <p:nvPicPr>
          <p:cNvPr id="1151" name="Picture 1" descr=""/>
          <p:cNvPicPr/>
          <p:nvPr/>
        </p:nvPicPr>
        <p:blipFill>
          <a:blip r:embed="rId2"/>
          <a:stretch/>
        </p:blipFill>
        <p:spPr>
          <a:xfrm>
            <a:off x="3276720" y="1901880"/>
            <a:ext cx="1942920" cy="406440"/>
          </a:xfrm>
          <a:prstGeom prst="rect">
            <a:avLst/>
          </a:prstGeom>
          <a:ln w="0">
            <a:noFill/>
          </a:ln>
        </p:spPr>
      </p:pic>
      <p:pic>
        <p:nvPicPr>
          <p:cNvPr id="1152" name="Picture 1" descr=""/>
          <p:cNvPicPr/>
          <p:nvPr/>
        </p:nvPicPr>
        <p:blipFill>
          <a:blip r:embed="rId3"/>
          <a:stretch/>
        </p:blipFill>
        <p:spPr>
          <a:xfrm>
            <a:off x="7201080" y="2565360"/>
            <a:ext cx="1403280" cy="406440"/>
          </a:xfrm>
          <a:prstGeom prst="rect">
            <a:avLst/>
          </a:prstGeom>
          <a:ln w="0">
            <a:noFill/>
          </a:ln>
        </p:spPr>
      </p:pic>
      <p:pic>
        <p:nvPicPr>
          <p:cNvPr id="1153" name="Picture 1" descr=""/>
          <p:cNvPicPr/>
          <p:nvPr/>
        </p:nvPicPr>
        <p:blipFill>
          <a:blip r:embed="rId4"/>
          <a:stretch/>
        </p:blipFill>
        <p:spPr>
          <a:xfrm>
            <a:off x="2627280" y="3141720"/>
            <a:ext cx="2449440" cy="406440"/>
          </a:xfrm>
          <a:prstGeom prst="rect">
            <a:avLst/>
          </a:prstGeom>
          <a:ln w="0">
            <a:noFill/>
          </a:ln>
        </p:spPr>
      </p:pic>
      <p:pic>
        <p:nvPicPr>
          <p:cNvPr id="1154" name="Picture 1" descr=""/>
          <p:cNvPicPr/>
          <p:nvPr/>
        </p:nvPicPr>
        <p:blipFill>
          <a:blip r:embed="rId5"/>
          <a:stretch/>
        </p:blipFill>
        <p:spPr>
          <a:xfrm>
            <a:off x="6227640" y="3673440"/>
            <a:ext cx="2376720" cy="406440"/>
          </a:xfrm>
          <a:prstGeom prst="rect">
            <a:avLst/>
          </a:prstGeom>
          <a:ln w="0">
            <a:noFill/>
          </a:ln>
        </p:spPr>
      </p:pic>
      <p:pic>
        <p:nvPicPr>
          <p:cNvPr id="1155" name="Picture 1" descr=""/>
          <p:cNvPicPr/>
          <p:nvPr/>
        </p:nvPicPr>
        <p:blipFill>
          <a:blip r:embed="rId6"/>
          <a:stretch/>
        </p:blipFill>
        <p:spPr>
          <a:xfrm>
            <a:off x="2627280" y="4249800"/>
            <a:ext cx="4537080" cy="406440"/>
          </a:xfrm>
          <a:prstGeom prst="rect">
            <a:avLst/>
          </a:prstGeom>
          <a:ln w="0">
            <a:noFill/>
          </a:ln>
        </p:spPr>
      </p:pic>
      <p:pic>
        <p:nvPicPr>
          <p:cNvPr id="1156" name="Picture 1" descr=""/>
          <p:cNvPicPr/>
          <p:nvPr/>
        </p:nvPicPr>
        <p:blipFill>
          <a:blip r:embed="rId7"/>
          <a:stretch/>
        </p:blipFill>
        <p:spPr>
          <a:xfrm>
            <a:off x="6588000" y="4768920"/>
            <a:ext cx="2087640" cy="406440"/>
          </a:xfrm>
          <a:prstGeom prst="rect">
            <a:avLst/>
          </a:prstGeom>
          <a:ln w="0">
            <a:noFill/>
          </a:ln>
        </p:spPr>
      </p:pic>
      <p:pic>
        <p:nvPicPr>
          <p:cNvPr id="1157" name="Picture 1" descr=""/>
          <p:cNvPicPr/>
          <p:nvPr/>
        </p:nvPicPr>
        <p:blipFill>
          <a:blip r:embed="rId8"/>
          <a:stretch/>
        </p:blipFill>
        <p:spPr>
          <a:xfrm>
            <a:off x="2627280" y="5345280"/>
            <a:ext cx="1873440" cy="406080"/>
          </a:xfrm>
          <a:prstGeom prst="rect">
            <a:avLst/>
          </a:prstGeom>
          <a:ln w="0">
            <a:noFill/>
          </a:ln>
        </p:spPr>
      </p:pic>
      <p:pic>
        <p:nvPicPr>
          <p:cNvPr id="1158" name="Picture 1" descr=""/>
          <p:cNvPicPr/>
          <p:nvPr/>
        </p:nvPicPr>
        <p:blipFill>
          <a:blip r:embed="rId9"/>
          <a:stretch/>
        </p:blipFill>
        <p:spPr>
          <a:xfrm>
            <a:off x="5667480" y="6006960"/>
            <a:ext cx="1403280" cy="4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1" dur="500"/>
                                        <p:tgtEl>
                                          <p:spTgt spid="1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6" dur="500"/>
                                        <p:tgtEl>
                                          <p:spTgt spid="1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500"/>
                            </p:stCondLst>
                            <p:childTnLst>
                              <p:par>
                                <p:cTn id="159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0" dur="500"/>
                                        <p:tgtEl>
                                          <p:spTgt spid="1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5" dur="500"/>
                                        <p:tgtEl>
                                          <p:spTgt spid="11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68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9" dur="500"/>
                                        <p:tgtEl>
                                          <p:spTgt spid="1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4" dur="500"/>
                                        <p:tgtEl>
                                          <p:spTgt spid="1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500"/>
                            </p:stCondLst>
                            <p:childTnLst>
                              <p:par>
                                <p:cTn id="177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8" dur="500"/>
                                        <p:tgtEl>
                                          <p:spTgt spid="1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3" dur="500"/>
                                        <p:tgtEl>
                                          <p:spTgt spid="1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9" name="图片 1" descr=""/>
          <p:cNvPicPr/>
          <p:nvPr/>
        </p:nvPicPr>
        <p:blipFill>
          <a:blip r:embed="rId1"/>
          <a:stretch/>
        </p:blipFill>
        <p:spPr>
          <a:xfrm>
            <a:off x="104760" y="534960"/>
            <a:ext cx="8934480" cy="6257880"/>
          </a:xfrm>
          <a:prstGeom prst="rect">
            <a:avLst/>
          </a:prstGeom>
          <a:ln w="0">
            <a:noFill/>
          </a:ln>
        </p:spPr>
      </p:pic>
      <p:pic>
        <p:nvPicPr>
          <p:cNvPr id="1160" name="Picture 1" descr=""/>
          <p:cNvPicPr/>
          <p:nvPr/>
        </p:nvPicPr>
        <p:blipFill>
          <a:blip r:embed="rId2"/>
          <a:stretch/>
        </p:blipFill>
        <p:spPr>
          <a:xfrm>
            <a:off x="900000" y="4076640"/>
            <a:ext cx="1511280" cy="406440"/>
          </a:xfrm>
          <a:prstGeom prst="rect">
            <a:avLst/>
          </a:prstGeom>
          <a:ln w="0">
            <a:noFill/>
          </a:ln>
        </p:spPr>
      </p:pic>
      <p:pic>
        <p:nvPicPr>
          <p:cNvPr id="1161" name="Picture 1" descr=""/>
          <p:cNvPicPr/>
          <p:nvPr/>
        </p:nvPicPr>
        <p:blipFill>
          <a:blip r:embed="rId3"/>
          <a:stretch/>
        </p:blipFill>
        <p:spPr>
          <a:xfrm>
            <a:off x="7885080" y="4624560"/>
            <a:ext cx="934920" cy="406080"/>
          </a:xfrm>
          <a:prstGeom prst="rect">
            <a:avLst/>
          </a:prstGeom>
          <a:ln w="0">
            <a:noFill/>
          </a:ln>
        </p:spPr>
      </p:pic>
      <p:pic>
        <p:nvPicPr>
          <p:cNvPr id="1162" name="Picture 1" descr=""/>
          <p:cNvPicPr/>
          <p:nvPr/>
        </p:nvPicPr>
        <p:blipFill>
          <a:blip r:embed="rId4"/>
          <a:stretch/>
        </p:blipFill>
        <p:spPr>
          <a:xfrm>
            <a:off x="250920" y="5186520"/>
            <a:ext cx="934920" cy="406080"/>
          </a:xfrm>
          <a:prstGeom prst="rect">
            <a:avLst/>
          </a:prstGeom>
          <a:ln w="0">
            <a:noFill/>
          </a:ln>
        </p:spPr>
      </p:pic>
      <p:pic>
        <p:nvPicPr>
          <p:cNvPr id="1163" name="Picture 1" descr=""/>
          <p:cNvPicPr/>
          <p:nvPr/>
        </p:nvPicPr>
        <p:blipFill>
          <a:blip r:embed="rId5"/>
          <a:stretch/>
        </p:blipFill>
        <p:spPr>
          <a:xfrm>
            <a:off x="2700360" y="5734080"/>
            <a:ext cx="934920" cy="4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0" dur="500"/>
                                        <p:tgtEl>
                                          <p:spTgt spid="1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5" dur="500"/>
                                        <p:tgtEl>
                                          <p:spTgt spid="1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500"/>
                            </p:stCondLst>
                            <p:childTnLst>
                              <p:par>
                                <p:cTn id="198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9" dur="500"/>
                                        <p:tgtEl>
                                          <p:spTgt spid="1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4" dur="500"/>
                                        <p:tgtEl>
                                          <p:spTgt spid="1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7" name="图片 1" descr=""/>
          <p:cNvPicPr/>
          <p:nvPr/>
        </p:nvPicPr>
        <p:blipFill>
          <a:blip r:embed="rId1"/>
          <a:stretch/>
        </p:blipFill>
        <p:spPr>
          <a:xfrm>
            <a:off x="257040" y="738360"/>
            <a:ext cx="8723520" cy="60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4" name="图片 1" descr=""/>
          <p:cNvPicPr/>
          <p:nvPr/>
        </p:nvPicPr>
        <p:blipFill>
          <a:blip r:embed="rId1"/>
          <a:stretch/>
        </p:blipFill>
        <p:spPr>
          <a:xfrm>
            <a:off x="181080" y="795240"/>
            <a:ext cx="8781840" cy="4923000"/>
          </a:xfrm>
          <a:prstGeom prst="rect">
            <a:avLst/>
          </a:prstGeom>
          <a:ln w="0">
            <a:noFill/>
          </a:ln>
        </p:spPr>
      </p:pic>
      <p:pic>
        <p:nvPicPr>
          <p:cNvPr id="1165" name="图片 2" descr=""/>
          <p:cNvPicPr/>
          <p:nvPr/>
        </p:nvPicPr>
        <p:blipFill>
          <a:blip r:embed="rId2"/>
          <a:stretch/>
        </p:blipFill>
        <p:spPr>
          <a:xfrm>
            <a:off x="228600" y="5718240"/>
            <a:ext cx="8837640" cy="1066680"/>
          </a:xfrm>
          <a:prstGeom prst="rect">
            <a:avLst/>
          </a:prstGeom>
          <a:ln w="0">
            <a:noFill/>
          </a:ln>
        </p:spPr>
      </p:pic>
      <p:pic>
        <p:nvPicPr>
          <p:cNvPr id="1166" name="Picture 1" descr=""/>
          <p:cNvPicPr/>
          <p:nvPr/>
        </p:nvPicPr>
        <p:blipFill>
          <a:blip r:embed="rId3"/>
          <a:stretch/>
        </p:blipFill>
        <p:spPr>
          <a:xfrm>
            <a:off x="7812000" y="793800"/>
            <a:ext cx="1008000" cy="406440"/>
          </a:xfrm>
          <a:prstGeom prst="rect">
            <a:avLst/>
          </a:prstGeom>
          <a:ln w="0">
            <a:noFill/>
          </a:ln>
        </p:spPr>
      </p:pic>
      <p:pic>
        <p:nvPicPr>
          <p:cNvPr id="1167" name="Picture 1" descr=""/>
          <p:cNvPicPr/>
          <p:nvPr/>
        </p:nvPicPr>
        <p:blipFill>
          <a:blip r:embed="rId4"/>
          <a:stretch/>
        </p:blipFill>
        <p:spPr>
          <a:xfrm>
            <a:off x="4859280" y="1901880"/>
            <a:ext cx="1008000" cy="406440"/>
          </a:xfrm>
          <a:prstGeom prst="rect">
            <a:avLst/>
          </a:prstGeom>
          <a:ln w="0">
            <a:noFill/>
          </a:ln>
        </p:spPr>
      </p:pic>
      <p:pic>
        <p:nvPicPr>
          <p:cNvPr id="1168" name="Picture 1" descr=""/>
          <p:cNvPicPr/>
          <p:nvPr/>
        </p:nvPicPr>
        <p:blipFill>
          <a:blip r:embed="rId5"/>
          <a:stretch/>
        </p:blipFill>
        <p:spPr>
          <a:xfrm>
            <a:off x="4067280" y="2451240"/>
            <a:ext cx="1008000" cy="406440"/>
          </a:xfrm>
          <a:prstGeom prst="rect">
            <a:avLst/>
          </a:prstGeom>
          <a:ln w="0">
            <a:noFill/>
          </a:ln>
        </p:spPr>
      </p:pic>
      <p:pic>
        <p:nvPicPr>
          <p:cNvPr id="1169" name="Picture 1" descr=""/>
          <p:cNvPicPr/>
          <p:nvPr/>
        </p:nvPicPr>
        <p:blipFill>
          <a:blip r:embed="rId6"/>
          <a:stretch/>
        </p:blipFill>
        <p:spPr>
          <a:xfrm>
            <a:off x="7093080" y="3543480"/>
            <a:ext cx="1655640" cy="406080"/>
          </a:xfrm>
          <a:prstGeom prst="rect">
            <a:avLst/>
          </a:prstGeom>
          <a:ln w="0">
            <a:noFill/>
          </a:ln>
        </p:spPr>
      </p:pic>
      <p:pic>
        <p:nvPicPr>
          <p:cNvPr id="1170" name="Picture 1" descr=""/>
          <p:cNvPicPr/>
          <p:nvPr/>
        </p:nvPicPr>
        <p:blipFill>
          <a:blip r:embed="rId7"/>
          <a:stretch/>
        </p:blipFill>
        <p:spPr>
          <a:xfrm>
            <a:off x="2771640" y="4653000"/>
            <a:ext cx="648000" cy="406440"/>
          </a:xfrm>
          <a:prstGeom prst="rect">
            <a:avLst/>
          </a:prstGeom>
          <a:ln w="0">
            <a:noFill/>
          </a:ln>
        </p:spPr>
      </p:pic>
      <p:pic>
        <p:nvPicPr>
          <p:cNvPr id="1171" name="Picture 1" descr=""/>
          <p:cNvPicPr/>
          <p:nvPr/>
        </p:nvPicPr>
        <p:blipFill>
          <a:blip r:embed="rId8"/>
          <a:stretch/>
        </p:blipFill>
        <p:spPr>
          <a:xfrm>
            <a:off x="8273880" y="5214960"/>
            <a:ext cx="648000" cy="406440"/>
          </a:xfrm>
          <a:prstGeom prst="rect">
            <a:avLst/>
          </a:prstGeom>
          <a:ln w="0">
            <a:noFill/>
          </a:ln>
        </p:spPr>
      </p:pic>
      <p:pic>
        <p:nvPicPr>
          <p:cNvPr id="1172" name="Picture 1" descr=""/>
          <p:cNvPicPr/>
          <p:nvPr/>
        </p:nvPicPr>
        <p:blipFill>
          <a:blip r:embed="rId9"/>
          <a:stretch/>
        </p:blipFill>
        <p:spPr>
          <a:xfrm>
            <a:off x="208080" y="5734080"/>
            <a:ext cx="1079280" cy="406440"/>
          </a:xfrm>
          <a:prstGeom prst="rect">
            <a:avLst/>
          </a:prstGeom>
          <a:ln w="0">
            <a:noFill/>
          </a:ln>
        </p:spPr>
      </p:pic>
      <p:pic>
        <p:nvPicPr>
          <p:cNvPr id="1173" name="Picture 1" descr=""/>
          <p:cNvPicPr/>
          <p:nvPr/>
        </p:nvPicPr>
        <p:blipFill>
          <a:blip r:embed="rId10"/>
          <a:stretch/>
        </p:blipFill>
        <p:spPr>
          <a:xfrm>
            <a:off x="3419640" y="6294600"/>
            <a:ext cx="1008000" cy="40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1" dur="500"/>
                                        <p:tgtEl>
                                          <p:spTgt spid="1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6" dur="500"/>
                                        <p:tgtEl>
                                          <p:spTgt spid="1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1" dur="500"/>
                                        <p:tgtEl>
                                          <p:spTgt spid="11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6" dur="500"/>
                                        <p:tgtEl>
                                          <p:spTgt spid="1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1" dur="500"/>
                                        <p:tgtEl>
                                          <p:spTgt spid="1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6" dur="500"/>
                                        <p:tgtEl>
                                          <p:spTgt spid="1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500"/>
                            </p:stCondLst>
                            <p:childTnLst>
                              <p:par>
                                <p:cTn id="239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0" dur="500"/>
                                        <p:tgtEl>
                                          <p:spTgt spid="1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5" dur="500"/>
                                        <p:tgtEl>
                                          <p:spTgt spid="1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8" name="图片 1" descr=""/>
          <p:cNvPicPr/>
          <p:nvPr/>
        </p:nvPicPr>
        <p:blipFill>
          <a:blip r:embed="rId1"/>
          <a:stretch/>
        </p:blipFill>
        <p:spPr>
          <a:xfrm>
            <a:off x="171360" y="698400"/>
            <a:ext cx="8801280" cy="6010200"/>
          </a:xfrm>
          <a:prstGeom prst="rect">
            <a:avLst/>
          </a:prstGeom>
          <a:ln w="0">
            <a:noFill/>
          </a:ln>
        </p:spPr>
      </p:pic>
      <p:pic>
        <p:nvPicPr>
          <p:cNvPr id="1109" name="Picture 1" descr=""/>
          <p:cNvPicPr/>
          <p:nvPr/>
        </p:nvPicPr>
        <p:blipFill>
          <a:blip r:embed="rId2"/>
          <a:stretch/>
        </p:blipFill>
        <p:spPr>
          <a:xfrm>
            <a:off x="684360" y="1773360"/>
            <a:ext cx="502920" cy="406440"/>
          </a:xfrm>
          <a:prstGeom prst="rect">
            <a:avLst/>
          </a:prstGeom>
          <a:ln w="0">
            <a:noFill/>
          </a:ln>
        </p:spPr>
      </p:pic>
      <p:pic>
        <p:nvPicPr>
          <p:cNvPr id="1110" name="Picture 1" descr=""/>
          <p:cNvPicPr/>
          <p:nvPr/>
        </p:nvPicPr>
        <p:blipFill>
          <a:blip r:embed="rId3"/>
          <a:stretch/>
        </p:blipFill>
        <p:spPr>
          <a:xfrm>
            <a:off x="611280" y="2349360"/>
            <a:ext cx="503280" cy="406440"/>
          </a:xfrm>
          <a:prstGeom prst="rect">
            <a:avLst/>
          </a:prstGeom>
          <a:ln w="0">
            <a:noFill/>
          </a:ln>
        </p:spPr>
      </p:pic>
      <p:pic>
        <p:nvPicPr>
          <p:cNvPr id="1111" name="Picture 1" descr=""/>
          <p:cNvPicPr/>
          <p:nvPr/>
        </p:nvPicPr>
        <p:blipFill>
          <a:blip r:embed="rId4"/>
          <a:stretch/>
        </p:blipFill>
        <p:spPr>
          <a:xfrm>
            <a:off x="611280" y="2924280"/>
            <a:ext cx="503280" cy="406440"/>
          </a:xfrm>
          <a:prstGeom prst="rect">
            <a:avLst/>
          </a:prstGeom>
          <a:ln w="0">
            <a:noFill/>
          </a:ln>
        </p:spPr>
      </p:pic>
      <p:pic>
        <p:nvPicPr>
          <p:cNvPr id="1112" name="Picture 1" descr=""/>
          <p:cNvPicPr/>
          <p:nvPr/>
        </p:nvPicPr>
        <p:blipFill>
          <a:blip r:embed="rId5"/>
          <a:stretch/>
        </p:blipFill>
        <p:spPr>
          <a:xfrm>
            <a:off x="611280" y="3429000"/>
            <a:ext cx="503280" cy="406440"/>
          </a:xfrm>
          <a:prstGeom prst="rect">
            <a:avLst/>
          </a:prstGeom>
          <a:ln w="0">
            <a:noFill/>
          </a:ln>
        </p:spPr>
      </p:pic>
      <p:pic>
        <p:nvPicPr>
          <p:cNvPr id="1113" name="Picture 1" descr=""/>
          <p:cNvPicPr/>
          <p:nvPr/>
        </p:nvPicPr>
        <p:blipFill>
          <a:blip r:embed="rId6"/>
          <a:stretch/>
        </p:blipFill>
        <p:spPr>
          <a:xfrm>
            <a:off x="611280" y="4005360"/>
            <a:ext cx="503280" cy="406440"/>
          </a:xfrm>
          <a:prstGeom prst="rect">
            <a:avLst/>
          </a:prstGeom>
          <a:ln w="0">
            <a:noFill/>
          </a:ln>
        </p:spPr>
      </p:pic>
      <p:pic>
        <p:nvPicPr>
          <p:cNvPr id="1114" name="Picture 1" descr=""/>
          <p:cNvPicPr/>
          <p:nvPr/>
        </p:nvPicPr>
        <p:blipFill>
          <a:blip r:embed="rId7"/>
          <a:stretch/>
        </p:blipFill>
        <p:spPr>
          <a:xfrm>
            <a:off x="684360" y="5084640"/>
            <a:ext cx="502920" cy="406440"/>
          </a:xfrm>
          <a:prstGeom prst="rect">
            <a:avLst/>
          </a:prstGeom>
          <a:ln w="0">
            <a:noFill/>
          </a:ln>
        </p:spPr>
      </p:pic>
      <p:pic>
        <p:nvPicPr>
          <p:cNvPr id="1115" name="Picture 1" descr=""/>
          <p:cNvPicPr/>
          <p:nvPr/>
        </p:nvPicPr>
        <p:blipFill>
          <a:blip r:embed="rId8"/>
          <a:stretch/>
        </p:blipFill>
        <p:spPr>
          <a:xfrm>
            <a:off x="684360" y="5661000"/>
            <a:ext cx="502920" cy="4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1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1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1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500"/>
                                        <p:tgtEl>
                                          <p:spTgt spid="1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500"/>
                                        <p:tgtEl>
                                          <p:spTgt spid="1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6" name="图片 1" descr=""/>
          <p:cNvPicPr/>
          <p:nvPr/>
        </p:nvPicPr>
        <p:blipFill>
          <a:blip r:embed="rId1"/>
          <a:stretch/>
        </p:blipFill>
        <p:spPr>
          <a:xfrm>
            <a:off x="324000" y="2319480"/>
            <a:ext cx="8496000" cy="2219040"/>
          </a:xfrm>
          <a:prstGeom prst="rect">
            <a:avLst/>
          </a:prstGeom>
          <a:ln w="0">
            <a:noFill/>
          </a:ln>
        </p:spPr>
      </p:pic>
      <p:pic>
        <p:nvPicPr>
          <p:cNvPr id="1117" name="Picture 1" descr=""/>
          <p:cNvPicPr/>
          <p:nvPr/>
        </p:nvPicPr>
        <p:blipFill>
          <a:blip r:embed="rId2"/>
          <a:stretch/>
        </p:blipFill>
        <p:spPr>
          <a:xfrm>
            <a:off x="755640" y="2349360"/>
            <a:ext cx="503280" cy="406440"/>
          </a:xfrm>
          <a:prstGeom prst="rect">
            <a:avLst/>
          </a:prstGeom>
          <a:ln w="0">
            <a:noFill/>
          </a:ln>
        </p:spPr>
      </p:pic>
      <p:pic>
        <p:nvPicPr>
          <p:cNvPr id="1118" name="Picture 1" descr=""/>
          <p:cNvPicPr/>
          <p:nvPr/>
        </p:nvPicPr>
        <p:blipFill>
          <a:blip r:embed="rId3"/>
          <a:stretch/>
        </p:blipFill>
        <p:spPr>
          <a:xfrm>
            <a:off x="755640" y="2881440"/>
            <a:ext cx="503280" cy="406440"/>
          </a:xfrm>
          <a:prstGeom prst="rect">
            <a:avLst/>
          </a:prstGeom>
          <a:ln w="0">
            <a:noFill/>
          </a:ln>
        </p:spPr>
      </p:pic>
      <p:pic>
        <p:nvPicPr>
          <p:cNvPr id="1119" name="Picture 1" descr=""/>
          <p:cNvPicPr/>
          <p:nvPr/>
        </p:nvPicPr>
        <p:blipFill>
          <a:blip r:embed="rId4"/>
          <a:stretch/>
        </p:blipFill>
        <p:spPr>
          <a:xfrm>
            <a:off x="755640" y="3443400"/>
            <a:ext cx="503280" cy="4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500"/>
                                        <p:tgtEl>
                                          <p:spTgt spid="1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500"/>
                                        <p:tgtEl>
                                          <p:spTgt spid="1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500"/>
                                        <p:tgtEl>
                                          <p:spTgt spid="1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0" name="图片 1" descr=""/>
          <p:cNvPicPr/>
          <p:nvPr/>
        </p:nvPicPr>
        <p:blipFill>
          <a:blip r:embed="rId1"/>
          <a:stretch/>
        </p:blipFill>
        <p:spPr>
          <a:xfrm>
            <a:off x="966960" y="426960"/>
            <a:ext cx="7084800" cy="633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1" name="图片 1" descr=""/>
          <p:cNvPicPr/>
          <p:nvPr/>
        </p:nvPicPr>
        <p:blipFill>
          <a:blip r:embed="rId1"/>
          <a:stretch/>
        </p:blipFill>
        <p:spPr>
          <a:xfrm>
            <a:off x="266760" y="1144440"/>
            <a:ext cx="8704080" cy="1838520"/>
          </a:xfrm>
          <a:prstGeom prst="rect">
            <a:avLst/>
          </a:prstGeom>
          <a:ln w="0">
            <a:noFill/>
          </a:ln>
        </p:spPr>
      </p:pic>
      <p:pic>
        <p:nvPicPr>
          <p:cNvPr id="1122" name="图片 2" descr=""/>
          <p:cNvPicPr/>
          <p:nvPr/>
        </p:nvPicPr>
        <p:blipFill>
          <a:blip r:embed="rId2"/>
          <a:stretch/>
        </p:blipFill>
        <p:spPr>
          <a:xfrm>
            <a:off x="371520" y="2982960"/>
            <a:ext cx="8400960" cy="2276280"/>
          </a:xfrm>
          <a:prstGeom prst="rect">
            <a:avLst/>
          </a:prstGeom>
          <a:ln w="0">
            <a:noFill/>
          </a:ln>
        </p:spPr>
      </p:pic>
      <p:pic>
        <p:nvPicPr>
          <p:cNvPr id="1123" name="Picture 1" descr=""/>
          <p:cNvPicPr/>
          <p:nvPr/>
        </p:nvPicPr>
        <p:blipFill>
          <a:blip r:embed="rId3"/>
          <a:stretch/>
        </p:blipFill>
        <p:spPr>
          <a:xfrm>
            <a:off x="684360" y="3573360"/>
            <a:ext cx="502920" cy="4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0" dur="500"/>
                                        <p:tgtEl>
                                          <p:spTgt spid="1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4" name="图片 1" descr=""/>
          <p:cNvPicPr/>
          <p:nvPr/>
        </p:nvPicPr>
        <p:blipFill>
          <a:blip r:embed="rId1"/>
          <a:stretch/>
        </p:blipFill>
        <p:spPr>
          <a:xfrm>
            <a:off x="162000" y="957240"/>
            <a:ext cx="8820000" cy="4943520"/>
          </a:xfrm>
          <a:prstGeom prst="rect">
            <a:avLst/>
          </a:prstGeom>
          <a:ln w="0">
            <a:noFill/>
          </a:ln>
        </p:spPr>
      </p:pic>
      <p:pic>
        <p:nvPicPr>
          <p:cNvPr id="1125" name="Picture 1" descr=""/>
          <p:cNvPicPr/>
          <p:nvPr/>
        </p:nvPicPr>
        <p:blipFill>
          <a:blip r:embed="rId2"/>
          <a:stretch/>
        </p:blipFill>
        <p:spPr>
          <a:xfrm>
            <a:off x="611280" y="981000"/>
            <a:ext cx="503280" cy="406440"/>
          </a:xfrm>
          <a:prstGeom prst="rect">
            <a:avLst/>
          </a:prstGeom>
          <a:ln w="0">
            <a:noFill/>
          </a:ln>
        </p:spPr>
      </p:pic>
      <p:pic>
        <p:nvPicPr>
          <p:cNvPr id="1126" name="Picture 1" descr=""/>
          <p:cNvPicPr/>
          <p:nvPr/>
        </p:nvPicPr>
        <p:blipFill>
          <a:blip r:embed="rId3"/>
          <a:stretch/>
        </p:blipFill>
        <p:spPr>
          <a:xfrm>
            <a:off x="611280" y="3716280"/>
            <a:ext cx="503280" cy="4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7" dur="500"/>
                                        <p:tgtEl>
                                          <p:spTgt spid="1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2" dur="500"/>
                                        <p:tgtEl>
                                          <p:spTgt spid="1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7" name="图片 1" descr=""/>
          <p:cNvPicPr/>
          <p:nvPr/>
        </p:nvPicPr>
        <p:blipFill>
          <a:blip r:embed="rId1"/>
          <a:stretch/>
        </p:blipFill>
        <p:spPr>
          <a:xfrm>
            <a:off x="171360" y="693720"/>
            <a:ext cx="8801280" cy="6018120"/>
          </a:xfrm>
          <a:prstGeom prst="rect">
            <a:avLst/>
          </a:prstGeom>
          <a:ln w="0">
            <a:noFill/>
          </a:ln>
        </p:spPr>
      </p:pic>
      <p:pic>
        <p:nvPicPr>
          <p:cNvPr id="1128" name="Picture 1" descr=""/>
          <p:cNvPicPr/>
          <p:nvPr/>
        </p:nvPicPr>
        <p:blipFill>
          <a:blip r:embed="rId2"/>
          <a:stretch/>
        </p:blipFill>
        <p:spPr>
          <a:xfrm>
            <a:off x="611280" y="765000"/>
            <a:ext cx="503280" cy="406440"/>
          </a:xfrm>
          <a:prstGeom prst="rect">
            <a:avLst/>
          </a:prstGeom>
          <a:ln w="0">
            <a:noFill/>
          </a:ln>
        </p:spPr>
      </p:pic>
      <p:pic>
        <p:nvPicPr>
          <p:cNvPr id="1129" name="Picture 1" descr=""/>
          <p:cNvPicPr/>
          <p:nvPr/>
        </p:nvPicPr>
        <p:blipFill>
          <a:blip r:embed="rId3"/>
          <a:stretch/>
        </p:blipFill>
        <p:spPr>
          <a:xfrm>
            <a:off x="611280" y="2997360"/>
            <a:ext cx="503280" cy="40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9" dur="500"/>
                                        <p:tgtEl>
                                          <p:spTgt spid="1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4" dur="500"/>
                                        <p:tgtEl>
                                          <p:spTgt spid="1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0" name="图片 1" descr=""/>
          <p:cNvPicPr/>
          <p:nvPr/>
        </p:nvPicPr>
        <p:blipFill>
          <a:blip r:embed="rId1"/>
          <a:stretch/>
        </p:blipFill>
        <p:spPr>
          <a:xfrm>
            <a:off x="130320" y="923760"/>
            <a:ext cx="8885160" cy="55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加冕成王</cp:lastModifiedBy>
  <dcterms:modified xsi:type="dcterms:W3CDTF">2020-07-17T02:43:36Z</dcterms:modified>
  <cp:revision>2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828</vt:lpwstr>
  </property>
</Properties>
</file>